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EB742-A75C-4069-A4D2-08B626800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099F4-FD36-41C4-9576-69C3A4315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6CF67-44C4-4FB4-8E17-058B4B1E3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A4453-EB81-4940-8140-3CF93B09F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A4054-73EE-4555-8362-C320962C2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85EB5-E60D-4AF7-9B52-0C049BEC2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44981-16EF-48BB-A79F-C37E92792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A8D5B-9988-4E30-BAF5-61420C230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28AEF-E7F4-4EB3-8FAB-015A7910C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CC7DC-EEEB-465E-A6BF-18966C032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0477B-F79B-4432-9D36-333062BFB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D6BC7-2D76-429E-8A9C-BEEB4E186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1A922-D883-4EDE-A608-0BD73E64C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AA991-5766-45C9-8F49-89C6B76A6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21992-DA62-437E-A402-945685D86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3F19A7-B1E8-4647-B78F-87B27A8D6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959A1-BDC6-47FB-948E-3F5E3A9AB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E9FE52-AB2D-4425-BD27-1BC4B6A1D2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50FF01-91D6-4760-968B-8CAD89E398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00603C-F0FD-470B-B0B4-4CB8E70BF5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BA12DE-D87F-4612-8EF8-97A27B1825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1B6203-C5F4-4E14-8B62-6ABF5B78C5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D7A77-9259-4FE5-9F63-EB8732311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079A12-0728-4652-8458-FE2D4D169B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3B7FDD-F498-470A-BD4A-451D79D38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B4AF4-C48C-450D-8A54-5B275E9A11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01D60A-904A-4E6F-95E2-E443B0CE7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947D84-D4A0-4B43-9F05-F638A14066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E7EF58-FD33-4F18-AB35-6CBEF2CA7A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3112FF-7596-4313-ADE6-FA39F51D82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6FB79EC-DABB-40BE-8704-FB568F3848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1AD8BFA-0A56-4AE9-B96D-3D350436B8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E1426D7-13E5-44B8-84D5-340F59143C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C7DFC-41FB-4330-88E1-7D3A6FE2D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7D4D3AD-088D-40A6-A41A-3950B964CF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B46D4C0-A904-49BF-94D0-66E4CE58D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87F0BD6-B4AF-4D98-9953-C13AD575D8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A89167-19B1-43D2-84C9-971D5265F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BFF44EC-16B2-4F1A-9AF1-C67F83C899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29D9DB-9ADD-489C-A0AE-5890C7C331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11D3A2E-1D42-4F84-86BD-EC68614226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CA456A9-AFD6-4B66-9C15-B768056983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6582D53-A5CA-43AD-9053-66060D193F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651738-8C54-4074-AF51-05F8F404FB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CFE77-BABF-42A3-90F1-1EDB1B484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DC750B-613F-4D3B-A769-116C88F1F9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37AF33-EB13-40EA-850B-0215DD0AB3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2F17D4-58E2-44D1-93BD-897910A36D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C6099E-6453-437E-9EFA-B766613442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F2BF83-41D4-40E0-A6D4-C17B11B327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417823-A472-4CFD-8804-F6425B825A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B37692-2261-41E3-8D41-B009C9C6D1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5E3041-C885-4625-A18A-75C87F0782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F686ED-69E8-4F19-851E-FFE1105FA8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AE2ACE-988F-4207-9BF5-8AA6B466A1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79F29-9C55-4B28-AF44-458140A2D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BF03FA-53D5-4D4B-ADB8-C48B73AF59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F02A41-912F-467A-9548-791F4D3242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4E1603-7863-42D4-AD7D-627EB9C1EE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77FE25-1348-4FE9-B461-4C40DC027D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3A8C10-E171-4097-991F-D970900846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CB133B-5CE9-45D9-8588-3D51A37CEB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0A7F47-216B-4186-9EB6-F654427744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5E1B7F-5D47-4FAA-A613-9F596FFFE9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EEC6A4-140A-4EF4-9EF7-93C246DFBD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C9BCE2-0432-4539-96CF-123CA21456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21E4C-0A4C-4B3A-AE9D-7B7FC51C1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B0D5F3-8650-4993-AAF1-D8EF7DB2A6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921EBE-807F-48F9-909D-DD1A09530D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9567D6-1010-4EBC-8BA1-2FFDEB387A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81AB0-5384-4D8B-98C0-4D171B1F3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5DB5A-EA1A-4327-BE1B-74A0AAF0A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CA7C-F654-4BD6-955C-D5477AC2096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DFCF-792E-43C4-BA1B-48841F46F65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0" y="0"/>
            <a:ext cx="9144000" cy="6858000"/>
            <a:chOff x="0" y="0"/>
            <a:chExt cx="9144000" cy="6858000"/>
          </a:xfrm>
        </p:grpSpPr>
        <p:sp>
          <p:nvSpPr>
            <p:cNvPr id="15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0" y="6019920"/>
            <a:ext cx="7848720" cy="857160"/>
            <a:chOff x="0" y="6019920"/>
            <a:chExt cx="7848720" cy="857160"/>
          </a:xfrm>
        </p:grpSpPr>
        <p:sp>
          <p:nvSpPr>
            <p:cNvPr id="16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 name=""/>
            <p:cNvGrpSpPr/>
            <p:nvPr/>
          </p:nvGrpSpPr>
          <p:grpSpPr>
            <a:xfrm>
              <a:off x="3946680" y="6019920"/>
              <a:ext cx="3902040" cy="857160"/>
              <a:chOff x="3946680" y="6019920"/>
              <a:chExt cx="3902040" cy="857160"/>
            </a:xfrm>
          </p:grpSpPr>
          <p:sp>
            <p:nvSpPr>
              <p:cNvPr id="16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627120" y="6021360"/>
            <a:ext cx="5684760" cy="849240"/>
            <a:chOff x="627120" y="6021360"/>
            <a:chExt cx="5684760" cy="849240"/>
          </a:xfrm>
        </p:grpSpPr>
        <p:sp>
          <p:nvSpPr>
            <p:cNvPr id="16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DAE3-277F-414C-AE95-B2B40D3E8C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6" name=""/>
          <p:cNvGrpSpPr/>
          <p:nvPr/>
        </p:nvGrpSpPr>
        <p:grpSpPr>
          <a:xfrm>
            <a:off x="-6480" y="20520"/>
            <a:ext cx="9144000" cy="6858000"/>
            <a:chOff x="-6480" y="20520"/>
            <a:chExt cx="9144000" cy="6858000"/>
          </a:xfrm>
        </p:grpSpPr>
        <p:sp>
          <p:nvSpPr>
            <p:cNvPr id="21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1440" y="6033960"/>
            <a:ext cx="7844400" cy="850680"/>
            <a:chOff x="-1440" y="6033960"/>
            <a:chExt cx="7844400" cy="850680"/>
          </a:xfrm>
        </p:grpSpPr>
        <p:sp>
          <p:nvSpPr>
            <p:cNvPr id="22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3944880" y="6033960"/>
              <a:ext cx="3898080" cy="850680"/>
              <a:chOff x="3944880" y="6033960"/>
              <a:chExt cx="3898080" cy="850680"/>
            </a:xfrm>
          </p:grpSpPr>
          <p:sp>
            <p:nvSpPr>
              <p:cNvPr id="22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9" name=""/>
          <p:cNvGrpSpPr/>
          <p:nvPr/>
        </p:nvGrpSpPr>
        <p:grpSpPr>
          <a:xfrm>
            <a:off x="627120" y="6021360"/>
            <a:ext cx="5684760" cy="849240"/>
            <a:chOff x="627120" y="6021360"/>
            <a:chExt cx="5684760" cy="849240"/>
          </a:xfrm>
        </p:grpSpPr>
        <p:sp>
          <p:nvSpPr>
            <p:cNvPr id="23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3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8"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9A6B-0EB4-4BD1-AFE5-916E021B3B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7" name=""/>
          <p:cNvGrpSpPr/>
          <p:nvPr/>
        </p:nvGrpSpPr>
        <p:grpSpPr>
          <a:xfrm>
            <a:off x="0" y="0"/>
            <a:ext cx="9144000" cy="6934320"/>
            <a:chOff x="0" y="0"/>
            <a:chExt cx="9144000" cy="6934320"/>
          </a:xfrm>
        </p:grpSpPr>
        <p:sp>
          <p:nvSpPr>
            <p:cNvPr id="27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9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0A2B-3AA3-46E4-9C05-AB07185D36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9144000" cy="6934320"/>
            <a:chOff x="0" y="0"/>
            <a:chExt cx="9144000" cy="6934320"/>
          </a:xfrm>
        </p:grpSpPr>
        <p:sp>
          <p:nvSpPr>
            <p:cNvPr id="33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5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9"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6335-F384-4096-9FD3-7EF4858EC3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Истинный рецидив и «срыв»</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утренние расстройства</a:t>
            </a: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ясности мышления</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способность управлять чувствами и эмоциям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памя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сн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умение управлять стрессом</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Чувство стыда, вины, безнадежнос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врат к самообман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ешние расстройства</a:t>
            </a:r>
            <a:endParaRPr b="0" lang="en-US" sz="44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становка на неудачу.</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ереход в оборону, капитуляци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Депрессия подавленность.</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адекватная реакция, раздражительность.</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Потеря контроля</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арушение способности к суждению.</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умение противостоять импульсам.</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отеря контроля над события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ужение спектра возможностей (единственный путь – бросить все и поесть до отвал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моциональный или физический взры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Возвращение к старой привычке</a:t>
            </a:r>
            <a:endParaRPr b="0" lang="en-US" sz="4000" spc="-1" strike="noStrike">
              <a:solidFill>
                <a:srgbClr val="ccecff"/>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Гнетущее чувство стыда, вины и угрызение совест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теря контроля над собо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росшее число проблем со здоровье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рыв» – это неконтролируемый по количеству, составу и времени однократный прием пищи с последующим возвратом к правильному питанию.</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ецидив» - это процесс систематического возврата к старой привычке (более двух дней).</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крет успешного исцеления от зависимости – устремленность к конечной цели, т.е. истинной свободе в выборе полезной пищи.</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дельные «срывы» на этом пути могут быть. Но если вы остаетесь верны своему решению снизить вес, эти срывы не означают полного провала, если за первым перекусом не проследуют второй, третий, четверты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Если произошел срыв, не надо судорожно «прячась» запихивать в себя еду, а спокойно спросите себя: «Что произошло? Зачем я сейчас ем? Какие предупредительные сигналы могли остановить меня? Кто был со мной в это врем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веты на эти вопросы расскажут вам о внешних и внутренних причинах и сопутствующих факторах вашей привыч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иться на ошибках – в этом секрет успех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егодня наш девиз: «Поговори с собой по дружеск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бдумай срыв (если он произойдет) в конструктивном духе.</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кажи себе: «Я сделал свой выбор», забудь о неудаче и продолжай питаться как ни в чем не бывало.</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
          <p:cNvSpPr txBox="1"/>
          <p:nvPr/>
        </p:nvSpPr>
        <p:spPr>
          <a:xfrm>
            <a:off x="611280" y="1916280"/>
            <a:ext cx="7993080" cy="3025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Impact"/>
              </a:rPr>
              <a:t>Процесс развития срыва</a:t>
            </a:r>
            <a:endParaRPr b="1" i="1" lang="en-US" sz="4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Самообман – непризнание того, что вы попали в мертвую зону.</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роцесс снижения веса – это не прямолинейное движение из пункта «А» в пункт «Б». На этом пути могут быть вынужденные остановки, или «мертвые зоны».</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озможны отдельные срывы или переключение на другие виды зависимости.</a:t>
            </a:r>
            <a:endParaRPr b="0" lang="en-US" sz="2800" spc="-1" strike="noStrike">
              <a:solidFill>
                <a:srgbClr val="ffffff"/>
              </a:solidFill>
              <a:latin typeface="Times New Roman"/>
            </a:endParaRPr>
          </a:p>
        </p:txBody>
      </p:sp>
      <p:sp>
        <p:nvSpPr>
          <p:cNvPr id="403" name=""/>
          <p:cNvSpPr txBox="1"/>
          <p:nvPr/>
        </p:nvSpPr>
        <p:spPr>
          <a:xfrm>
            <a:off x="1692360" y="836640"/>
            <a:ext cx="5472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ообм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i="1" lang="en-US" sz="3200" spc="-1" strike="noStrike">
                <a:solidFill>
                  <a:srgbClr val="ffffff"/>
                </a:solidFill>
                <a:latin typeface="Times New Roman"/>
              </a:rPr>
              <a:t>- Особенности личности: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Склонность к стрессу;</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редрасположенность к зависимости.</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 Особенность образа жизни:</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еренапряжение, скука.</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Нездоровый образ жизни</a:t>
            </a:r>
            <a:r>
              <a:rPr b="0" lang="en-US" sz="3200" spc="-1" strike="noStrike">
                <a:solidFill>
                  <a:srgbClr val="ffffff"/>
                </a:solidFill>
                <a:latin typeface="Times New Roman"/>
              </a:rPr>
              <a:t> </a:t>
            </a:r>
            <a:r>
              <a:rPr b="0" lang="en-US" sz="2800" spc="-1" strike="noStrike">
                <a:solidFill>
                  <a:srgbClr val="ffffff"/>
                </a:solidFill>
                <a:latin typeface="Times New Roman"/>
              </a:rPr>
              <a:t>(злоупотребление алкоголем, недостаток сна и физической активности).</a:t>
            </a:r>
            <a:endParaRPr b="0" lang="en-US" sz="2800" spc="-1" strike="noStrike">
              <a:solidFill>
                <a:srgbClr val="ffffff"/>
              </a:solidFill>
              <a:latin typeface="Times New Roman"/>
            </a:endParaRPr>
          </a:p>
        </p:txBody>
      </p:sp>
      <p:sp>
        <p:nvSpPr>
          <p:cNvPr id="405" name=""/>
          <p:cNvSpPr txBox="1"/>
          <p:nvPr/>
        </p:nvSpPr>
        <p:spPr>
          <a:xfrm>
            <a:off x="1619280" y="692280"/>
            <a:ext cx="6229440" cy="1079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Факторы повышенного риска</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Факторы раздражители</a:t>
            </a:r>
            <a:endParaRPr b="0" lang="en-US" sz="44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удные ситуации в общении с людь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яжелые воспоминания из прошлого</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евожные мысл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трицательные эмоци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3:53:45Z</dcterms:created>
  <dc:creator>cb</dc:creator>
  <dc:description/>
  <dc:language>en-US</dc:language>
  <cp:lastModifiedBy>Черевичная Вера Петровна</cp:lastModifiedBy>
  <dcterms:modified xsi:type="dcterms:W3CDTF">2007-03-11T14:19:38Z</dcterms:modified>
  <cp:revision>4</cp:revision>
  <dc:subject/>
  <dc:title>Истинный рецидив и «срыв»</dc:title>
</cp:coreProperties>
</file>